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0BC-C4B5-44EC-9D71-FAA40AEB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CCC-99A5-4E5B-8A03-9B13073E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D1B-C584-4363-ABC7-F5771FB2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F61-FDA7-4331-BA7F-2C5884E7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2EDD-83BD-4A74-A53B-91BD66E9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F60-0CFB-444B-A40D-AAB2DC1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59A-3F9D-49ED-AD4F-18A315E8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BDD-6B39-497B-AEE0-20A523B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71C4-D68F-4759-886A-41F4028D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18EB-2A21-4A4C-A550-52BA6DCD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64CA-0A12-4610-AC40-B801F7A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6D3-67C6-44F5-8060-76859BDE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B5F-EA52-438F-BBDB-B747758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7B30-B93C-429D-B34E-F2E4195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A594-FB18-4DEB-8E64-EB2CFBE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020-BF1A-4F2B-B097-FBC012CA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33A2-7669-41C1-8D8E-ACEE353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F02-0703-437E-8669-31CE887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4422-DCF7-4E86-AF2E-1D242A5B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0DF-2EE4-4CA8-9F71-25A3AA23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C4D-4E3A-44A6-9305-54F14197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814-727E-40E0-BD78-9227FE0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A3B-E717-4737-ACEF-A915D91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C1A-7BFD-43A2-90C5-ACAB07C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546D-3B22-4984-9000-0B9F171F4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7D3-11AB-4100-AEA1-0AD91E183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040" y="17524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2240" y="1752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144792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523880"/>
            <a:ext cx="11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el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89280" y="3168720"/>
            <a:ext cx="435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tried to find the fountain of youth in Florid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5120" y="316872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ce De l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18440" y="316872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Presid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3160" y="316872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4920" y="316872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Black Presid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5480" y="316872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rack Oba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939960" y="3200400"/>
            <a:ext cx="73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ssassinated at Ford’s the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8360" y="316872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411560" y="3200400"/>
            <a:ext cx="72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presidents were impeach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22040" y="316872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rew Johnson and Bill Clin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xplor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404720" y="31240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492, Who sailed the ocean bl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89280" y="3168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2160" y="316872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Vietn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2160" y="316872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ast A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89280" y="31687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leader of the North Vietname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1880" y="31687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 Chi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89280" y="3168720"/>
            <a:ext cx="61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president during the end of th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5120" y="316872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chard Nix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228320" y="320040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f the worst Vietnamese att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3880" y="316872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t Offen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12320" y="3168720"/>
            <a:ext cx="43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opher Columb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7760" y="3200400"/>
            <a:ext cx="73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d America win the Vietnames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3600" y="31687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8000" y="3168720"/>
            <a:ext cx="56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America named af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79200" y="316872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go Vespucc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89280" y="3168720"/>
            <a:ext cx="489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killed on their expedition before seeing it throug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1520" y="31687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gelle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89280" y="316872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en went on a expedition with the help of Sacajawe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6920" y="316872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wis and Cl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wkinsv0910</cp:lastModifiedBy>
  <dcterms:modified xsi:type="dcterms:W3CDTF">2009-12-16T22:49:37Z</dcterms:modified>
  <cp:revision>18</cp:revision>
  <dc:subject/>
  <dc:title>Jeopardy</dc:title>
</cp:coreProperties>
</file>